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A936-A83F-4072-AC36-45D98C3AEFB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CCCA-9C8B-4D07-BEEB-8FF03177E4D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EE34-0D58-4F87-A1B8-9D372D7101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econda TI"/>
          <p:cNvPicPr/>
          <p:nvPr/>
        </p:nvPicPr>
        <p:blipFill>
          <a:blip r:embed="rId2"/>
          <a:stretch/>
        </p:blipFill>
        <p:spPr>
          <a:xfrm>
            <a:off x="0" y="0"/>
            <a:ext cx="916164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8381880" y="6386400"/>
            <a:ext cx="546120" cy="274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61EA-4464-4286-A216-5110708A9721}" type="slidenum">
              <a:rPr b="1" lang="it-IT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Prima TI"/>
          <p:cNvPicPr/>
          <p:nvPr/>
        </p:nvPicPr>
        <p:blipFill>
          <a:blip r:embed="rId2"/>
          <a:stretch/>
        </p:blipFill>
        <p:spPr>
          <a:xfrm>
            <a:off x="0" y="0"/>
            <a:ext cx="9171000" cy="68785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2852640"/>
            <a:ext cx="6337440" cy="1886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TA: IL SEGUENTE PROGETTO ESERCIZIO DP N/I E’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COMPLE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ISPETTO A QUELLO PRESENTATOCI UFFICIALMENTE DALL’AZIENDA – MANCANO UNA DECINA DI PA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EGRETERIA GENERALE OR.S.A. FERR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reeform 38"/>
          <p:cNvSpPr/>
          <p:nvPr/>
        </p:nvSpPr>
        <p:spPr>
          <a:xfrm>
            <a:off x="150840" y="936720"/>
            <a:ext cx="4776840" cy="43574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1843200" y="2143080"/>
            <a:ext cx="15696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B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1357200" y="1571760"/>
            <a:ext cx="14292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2290680" y="1573200"/>
            <a:ext cx="138240" cy="141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6"/>
          <p:cNvSpPr/>
          <p:nvPr/>
        </p:nvSpPr>
        <p:spPr>
          <a:xfrm>
            <a:off x="0" y="44280"/>
            <a:ext cx="9325080" cy="933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Sale Operative e “tramiti territoriali” per “Linee di Prodot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asellaDiTesto 37"/>
          <p:cNvSpPr/>
          <p:nvPr/>
        </p:nvSpPr>
        <p:spPr>
          <a:xfrm>
            <a:off x="5499000" y="1714680"/>
            <a:ext cx="111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recciaRo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llaDiTesto 38"/>
          <p:cNvSpPr/>
          <p:nvPr/>
        </p:nvSpPr>
        <p:spPr>
          <a:xfrm>
            <a:off x="5491440" y="2068560"/>
            <a:ext cx="1220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recciaArg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asellaDiTesto 39"/>
          <p:cNvSpPr/>
          <p:nvPr/>
        </p:nvSpPr>
        <p:spPr>
          <a:xfrm>
            <a:off x="5499720" y="2428920"/>
            <a:ext cx="115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recciaBi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sellaDiTesto 40"/>
          <p:cNvSpPr/>
          <p:nvPr/>
        </p:nvSpPr>
        <p:spPr>
          <a:xfrm>
            <a:off x="5502960" y="2795760"/>
            <a:ext cx="532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ttangolo 41"/>
          <p:cNvSpPr/>
          <p:nvPr/>
        </p:nvSpPr>
        <p:spPr>
          <a:xfrm>
            <a:off x="7143840" y="178596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ttangolo 42"/>
          <p:cNvSpPr/>
          <p:nvPr/>
        </p:nvSpPr>
        <p:spPr>
          <a:xfrm>
            <a:off x="7143840" y="2139840"/>
            <a:ext cx="285840" cy="1429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ttangolo 43"/>
          <p:cNvSpPr/>
          <p:nvPr/>
        </p:nvSpPr>
        <p:spPr>
          <a:xfrm>
            <a:off x="7143840" y="2500200"/>
            <a:ext cx="28584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ttangolo 44"/>
          <p:cNvSpPr/>
          <p:nvPr/>
        </p:nvSpPr>
        <p:spPr>
          <a:xfrm>
            <a:off x="7143840" y="2857680"/>
            <a:ext cx="285840" cy="14256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857760" y="5280120"/>
            <a:ext cx="142920" cy="142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R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928800" y="2157480"/>
            <a:ext cx="142920" cy="142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4168800" y="3672000"/>
            <a:ext cx="142920" cy="142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2357280" y="3500280"/>
            <a:ext cx="142920" cy="18900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e 50"/>
          <p:cNvSpPr/>
          <p:nvPr/>
        </p:nvSpPr>
        <p:spPr>
          <a:xfrm>
            <a:off x="750960" y="1714680"/>
            <a:ext cx="19980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e 51"/>
          <p:cNvSpPr/>
          <p:nvPr/>
        </p:nvSpPr>
        <p:spPr>
          <a:xfrm>
            <a:off x="2036880" y="2143080"/>
            <a:ext cx="19980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e 52"/>
          <p:cNvSpPr/>
          <p:nvPr/>
        </p:nvSpPr>
        <p:spPr>
          <a:xfrm>
            <a:off x="2465280" y="1571760"/>
            <a:ext cx="20016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e 53"/>
          <p:cNvSpPr/>
          <p:nvPr/>
        </p:nvSpPr>
        <p:spPr>
          <a:xfrm>
            <a:off x="1528920" y="1571760"/>
            <a:ext cx="19980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e 54"/>
          <p:cNvSpPr/>
          <p:nvPr/>
        </p:nvSpPr>
        <p:spPr>
          <a:xfrm>
            <a:off x="2546280" y="3546360"/>
            <a:ext cx="200160" cy="1288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e 55"/>
          <p:cNvSpPr/>
          <p:nvPr/>
        </p:nvSpPr>
        <p:spPr>
          <a:xfrm>
            <a:off x="4368960" y="3679920"/>
            <a:ext cx="19980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e 56"/>
          <p:cNvSpPr/>
          <p:nvPr/>
        </p:nvSpPr>
        <p:spPr>
          <a:xfrm>
            <a:off x="3000240" y="3857760"/>
            <a:ext cx="20016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e 57"/>
          <p:cNvSpPr/>
          <p:nvPr/>
        </p:nvSpPr>
        <p:spPr>
          <a:xfrm>
            <a:off x="4054320" y="5286240"/>
            <a:ext cx="200160" cy="1288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asellaDiTesto 58"/>
          <p:cNvSpPr/>
          <p:nvPr/>
        </p:nvSpPr>
        <p:spPr>
          <a:xfrm>
            <a:off x="2970000" y="3951360"/>
            <a:ext cx="348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asellaDiTesto 59"/>
          <p:cNvSpPr/>
          <p:nvPr/>
        </p:nvSpPr>
        <p:spPr>
          <a:xfrm>
            <a:off x="6948720" y="1341360"/>
            <a:ext cx="640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ol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e 60"/>
          <p:cNvSpPr/>
          <p:nvPr/>
        </p:nvSpPr>
        <p:spPr>
          <a:xfrm>
            <a:off x="7643880" y="2854440"/>
            <a:ext cx="285840" cy="1429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llaDiTesto 62"/>
          <p:cNvSpPr/>
          <p:nvPr/>
        </p:nvSpPr>
        <p:spPr>
          <a:xfrm>
            <a:off x="7573320" y="1428840"/>
            <a:ext cx="3391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asellaDiTesto 63"/>
          <p:cNvSpPr/>
          <p:nvPr/>
        </p:nvSpPr>
        <p:spPr>
          <a:xfrm>
            <a:off x="6735960" y="3213000"/>
            <a:ext cx="1549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 = Tramite Territor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asellaDiTesto 65"/>
          <p:cNvSpPr/>
          <p:nvPr/>
        </p:nvSpPr>
        <p:spPr>
          <a:xfrm>
            <a:off x="696240" y="1800360"/>
            <a:ext cx="3420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e 66"/>
          <p:cNvSpPr/>
          <p:nvPr/>
        </p:nvSpPr>
        <p:spPr>
          <a:xfrm>
            <a:off x="2000160" y="2714760"/>
            <a:ext cx="20016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asellaDiTesto 67"/>
          <p:cNvSpPr/>
          <p:nvPr/>
        </p:nvSpPr>
        <p:spPr>
          <a:xfrm>
            <a:off x="1948680" y="2819520"/>
            <a:ext cx="285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9"/>
          <p:cNvSpPr/>
          <p:nvPr/>
        </p:nvSpPr>
        <p:spPr>
          <a:xfrm>
            <a:off x="700200" y="3782880"/>
            <a:ext cx="685800" cy="11559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0"/>
          <p:cNvSpPr/>
          <p:nvPr/>
        </p:nvSpPr>
        <p:spPr>
          <a:xfrm>
            <a:off x="2411280" y="5208480"/>
            <a:ext cx="1341720" cy="8128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sellaDiTesto 67"/>
          <p:cNvSpPr/>
          <p:nvPr/>
        </p:nvSpPr>
        <p:spPr>
          <a:xfrm>
            <a:off x="7596360" y="1757520"/>
            <a:ext cx="2599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sellaDiTesto 67"/>
          <p:cNvSpPr/>
          <p:nvPr/>
        </p:nvSpPr>
        <p:spPr>
          <a:xfrm>
            <a:off x="7596360" y="2101680"/>
            <a:ext cx="2599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llaDiTesto 67"/>
          <p:cNvSpPr/>
          <p:nvPr/>
        </p:nvSpPr>
        <p:spPr>
          <a:xfrm>
            <a:off x="7596360" y="2454120"/>
            <a:ext cx="2599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e 52"/>
          <p:cNvSpPr/>
          <p:nvPr/>
        </p:nvSpPr>
        <p:spPr>
          <a:xfrm>
            <a:off x="1547640" y="2579760"/>
            <a:ext cx="20016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47640" y="2679840"/>
            <a:ext cx="36036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e 52"/>
          <p:cNvSpPr/>
          <p:nvPr/>
        </p:nvSpPr>
        <p:spPr>
          <a:xfrm>
            <a:off x="2681280" y="2868480"/>
            <a:ext cx="200160" cy="1288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2968560"/>
            <a:ext cx="43164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e 52"/>
          <p:cNvSpPr/>
          <p:nvPr/>
        </p:nvSpPr>
        <p:spPr>
          <a:xfrm>
            <a:off x="1908000" y="1571760"/>
            <a:ext cx="20016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16200" y="1700280"/>
            <a:ext cx="45216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e 52"/>
          <p:cNvSpPr/>
          <p:nvPr/>
        </p:nvSpPr>
        <p:spPr>
          <a:xfrm>
            <a:off x="2700360" y="1413000"/>
            <a:ext cx="200160" cy="1285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00360" y="1484280"/>
            <a:ext cx="431640" cy="24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reeform 24"/>
          <p:cNvSpPr/>
          <p:nvPr/>
        </p:nvSpPr>
        <p:spPr>
          <a:xfrm>
            <a:off x="587520" y="946080"/>
            <a:ext cx="4776480" cy="43578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1911240" y="1571760"/>
            <a:ext cx="14292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2882880" y="1573200"/>
            <a:ext cx="13824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6"/>
          <p:cNvSpPr/>
          <p:nvPr/>
        </p:nvSpPr>
        <p:spPr>
          <a:xfrm>
            <a:off x="217440" y="187200"/>
            <a:ext cx="8712360" cy="506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Impianti di Manute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asellaDiTesto 37"/>
          <p:cNvSpPr/>
          <p:nvPr/>
        </p:nvSpPr>
        <p:spPr>
          <a:xfrm>
            <a:off x="5499000" y="1714680"/>
            <a:ext cx="111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recciaRo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asellaDiTesto 38"/>
          <p:cNvSpPr/>
          <p:nvPr/>
        </p:nvSpPr>
        <p:spPr>
          <a:xfrm>
            <a:off x="5491440" y="2068560"/>
            <a:ext cx="1220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recciaArg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asellaDiTesto 39"/>
          <p:cNvSpPr/>
          <p:nvPr/>
        </p:nvSpPr>
        <p:spPr>
          <a:xfrm>
            <a:off x="5499720" y="2428920"/>
            <a:ext cx="115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recciaBi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ttangolo 41"/>
          <p:cNvSpPr/>
          <p:nvPr/>
        </p:nvSpPr>
        <p:spPr>
          <a:xfrm>
            <a:off x="7143840" y="178596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ttangolo 42"/>
          <p:cNvSpPr/>
          <p:nvPr/>
        </p:nvSpPr>
        <p:spPr>
          <a:xfrm>
            <a:off x="7143840" y="2133720"/>
            <a:ext cx="285840" cy="1429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ttangolo 43"/>
          <p:cNvSpPr/>
          <p:nvPr/>
        </p:nvSpPr>
        <p:spPr>
          <a:xfrm>
            <a:off x="7143840" y="2492280"/>
            <a:ext cx="28584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ttangolo 44"/>
          <p:cNvSpPr/>
          <p:nvPr/>
        </p:nvSpPr>
        <p:spPr>
          <a:xfrm>
            <a:off x="7143840" y="2854440"/>
            <a:ext cx="285840" cy="14292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4449600" y="5280120"/>
            <a:ext cx="142920" cy="142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R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1163520" y="1714680"/>
            <a:ext cx="142920" cy="142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4761000" y="3672000"/>
            <a:ext cx="142920" cy="142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BA/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2949480" y="3500280"/>
            <a:ext cx="142920" cy="18900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utura Lt BT"/>
              </a:rPr>
              <a:t>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asellaDiTesto 58"/>
          <p:cNvSpPr/>
          <p:nvPr/>
        </p:nvSpPr>
        <p:spPr>
          <a:xfrm>
            <a:off x="3562200" y="3951360"/>
            <a:ext cx="348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2125800" y="1495440"/>
            <a:ext cx="14256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2125800" y="1757520"/>
            <a:ext cx="142560" cy="142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192480" y="3524400"/>
            <a:ext cx="142920" cy="142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3687840" y="3824280"/>
            <a:ext cx="14292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1301760" y="3782880"/>
            <a:ext cx="685800" cy="115596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6"/>
          <p:cNvSpPr/>
          <p:nvPr/>
        </p:nvSpPr>
        <p:spPr>
          <a:xfrm>
            <a:off x="2843280" y="5353200"/>
            <a:ext cx="1341360" cy="81252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asellaDiTesto 37"/>
          <p:cNvSpPr/>
          <p:nvPr/>
        </p:nvSpPr>
        <p:spPr>
          <a:xfrm>
            <a:off x="5499000" y="1714680"/>
            <a:ext cx="1116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recciaRo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asellaDiTesto 38"/>
          <p:cNvSpPr/>
          <p:nvPr/>
        </p:nvSpPr>
        <p:spPr>
          <a:xfrm>
            <a:off x="5491440" y="2068560"/>
            <a:ext cx="1220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recciaArg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asellaDiTesto 39"/>
          <p:cNvSpPr/>
          <p:nvPr/>
        </p:nvSpPr>
        <p:spPr>
          <a:xfrm>
            <a:off x="5499720" y="2428920"/>
            <a:ext cx="115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recciaBi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CasellaDiTesto 40"/>
          <p:cNvSpPr/>
          <p:nvPr/>
        </p:nvSpPr>
        <p:spPr>
          <a:xfrm>
            <a:off x="5502960" y="2795760"/>
            <a:ext cx="532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tangolo 41"/>
          <p:cNvSpPr/>
          <p:nvPr/>
        </p:nvSpPr>
        <p:spPr>
          <a:xfrm>
            <a:off x="7143840" y="178596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ttangolo 42"/>
          <p:cNvSpPr/>
          <p:nvPr/>
        </p:nvSpPr>
        <p:spPr>
          <a:xfrm>
            <a:off x="7143840" y="2133720"/>
            <a:ext cx="285840" cy="142920"/>
          </a:xfrm>
          <a:prstGeom prst="rect">
            <a:avLst/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ttangolo 43"/>
          <p:cNvSpPr/>
          <p:nvPr/>
        </p:nvSpPr>
        <p:spPr>
          <a:xfrm>
            <a:off x="7143840" y="2492280"/>
            <a:ext cx="28584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ttangolo 44"/>
          <p:cNvSpPr/>
          <p:nvPr/>
        </p:nvSpPr>
        <p:spPr>
          <a:xfrm>
            <a:off x="7143840" y="2854440"/>
            <a:ext cx="285840" cy="14292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asellaDiTesto 59"/>
          <p:cNvSpPr/>
          <p:nvPr/>
        </p:nvSpPr>
        <p:spPr>
          <a:xfrm>
            <a:off x="6934320" y="1341360"/>
            <a:ext cx="669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ian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ol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e 60"/>
          <p:cNvSpPr/>
          <p:nvPr/>
        </p:nvSpPr>
        <p:spPr>
          <a:xfrm>
            <a:off x="7885080" y="2854440"/>
            <a:ext cx="285840" cy="1429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asellaDiTesto 62"/>
          <p:cNvSpPr/>
          <p:nvPr/>
        </p:nvSpPr>
        <p:spPr>
          <a:xfrm>
            <a:off x="7572240" y="1341360"/>
            <a:ext cx="895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uten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e 60"/>
          <p:cNvSpPr/>
          <p:nvPr/>
        </p:nvSpPr>
        <p:spPr>
          <a:xfrm>
            <a:off x="7885080" y="1785960"/>
            <a:ext cx="28584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e 60"/>
          <p:cNvSpPr/>
          <p:nvPr/>
        </p:nvSpPr>
        <p:spPr>
          <a:xfrm>
            <a:off x="7885080" y="2492280"/>
            <a:ext cx="28584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e 60"/>
          <p:cNvSpPr/>
          <p:nvPr/>
        </p:nvSpPr>
        <p:spPr>
          <a:xfrm>
            <a:off x="7885080" y="2133720"/>
            <a:ext cx="285840" cy="14292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e 60"/>
          <p:cNvSpPr/>
          <p:nvPr/>
        </p:nvSpPr>
        <p:spPr>
          <a:xfrm>
            <a:off x="4443480" y="3689280"/>
            <a:ext cx="217440" cy="9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e 60"/>
          <p:cNvSpPr/>
          <p:nvPr/>
        </p:nvSpPr>
        <p:spPr>
          <a:xfrm>
            <a:off x="1347840" y="1744560"/>
            <a:ext cx="217440" cy="9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e 60"/>
          <p:cNvSpPr/>
          <p:nvPr/>
        </p:nvSpPr>
        <p:spPr>
          <a:xfrm>
            <a:off x="3147840" y="3716280"/>
            <a:ext cx="217800" cy="9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e 60"/>
          <p:cNvSpPr/>
          <p:nvPr/>
        </p:nvSpPr>
        <p:spPr>
          <a:xfrm>
            <a:off x="3076560" y="1557360"/>
            <a:ext cx="217440" cy="90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asellaDiTesto 67"/>
          <p:cNvSpPr/>
          <p:nvPr/>
        </p:nvSpPr>
        <p:spPr>
          <a:xfrm>
            <a:off x="2932560" y="2478240"/>
            <a:ext cx="348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e 60"/>
          <p:cNvSpPr/>
          <p:nvPr/>
        </p:nvSpPr>
        <p:spPr>
          <a:xfrm>
            <a:off x="4659480" y="5283360"/>
            <a:ext cx="217440" cy="9036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e 60"/>
          <p:cNvSpPr/>
          <p:nvPr/>
        </p:nvSpPr>
        <p:spPr>
          <a:xfrm>
            <a:off x="5018040" y="3697200"/>
            <a:ext cx="217440" cy="9072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e 60"/>
          <p:cNvSpPr/>
          <p:nvPr/>
        </p:nvSpPr>
        <p:spPr>
          <a:xfrm>
            <a:off x="3235320" y="2571840"/>
            <a:ext cx="217440" cy="9036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e 60"/>
          <p:cNvSpPr/>
          <p:nvPr/>
        </p:nvSpPr>
        <p:spPr>
          <a:xfrm>
            <a:off x="3076560" y="1697040"/>
            <a:ext cx="217440" cy="90360"/>
          </a:xfrm>
          <a:prstGeom prst="ellipse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56"/>
          <p:cNvSpPr/>
          <p:nvPr/>
        </p:nvSpPr>
        <p:spPr>
          <a:xfrm>
            <a:off x="217440" y="187200"/>
            <a:ext cx="8675640" cy="506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Impianti Equipaggi per “FrecciaRoss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379520" y="898560"/>
            <a:ext cx="4776480" cy="5194080"/>
            <a:chOff x="1379520" y="898560"/>
            <a:chExt cx="4776480" cy="5194080"/>
          </a:xfrm>
        </p:grpSpPr>
        <p:sp>
          <p:nvSpPr>
            <p:cNvPr id="426" name="Freeform 45"/>
            <p:cNvSpPr/>
            <p:nvPr/>
          </p:nvSpPr>
          <p:spPr>
            <a:xfrm>
              <a:off x="1379520" y="898560"/>
              <a:ext cx="4776480" cy="435744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CasellaDiTesto 35"/>
            <p:cNvSpPr/>
            <p:nvPr/>
          </p:nvSpPr>
          <p:spPr>
            <a:xfrm>
              <a:off x="3536640" y="3635280"/>
              <a:ext cx="3603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CasellaDiTesto 52"/>
            <p:cNvSpPr/>
            <p:nvPr/>
          </p:nvSpPr>
          <p:spPr>
            <a:xfrm>
              <a:off x="2579400" y="1920960"/>
              <a:ext cx="3099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7"/>
            <p:cNvSpPr/>
            <p:nvPr/>
          </p:nvSpPr>
          <p:spPr>
            <a:xfrm>
              <a:off x="1774800" y="3941640"/>
              <a:ext cx="685800" cy="115560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8"/>
            <p:cNvSpPr/>
            <p:nvPr/>
          </p:nvSpPr>
          <p:spPr>
            <a:xfrm>
              <a:off x="1774800" y="3941640"/>
              <a:ext cx="685800" cy="1155600"/>
            </a:xfrm>
            <a:prstGeom prst="pie">
              <a:avLst/>
            </a:pr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9"/>
            <p:cNvSpPr/>
            <p:nvPr/>
          </p:nvSpPr>
          <p:spPr>
            <a:xfrm flipH="1">
              <a:off x="5239800" y="4368600"/>
              <a:ext cx="3240" cy="0"/>
            </a:xfrm>
            <a:prstGeom prst="line">
              <a:avLst/>
            </a:prstGeom>
            <a:ln w="32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0"/>
            <p:cNvSpPr/>
            <p:nvPr/>
          </p:nvSpPr>
          <p:spPr>
            <a:xfrm>
              <a:off x="3558960" y="5276880"/>
              <a:ext cx="1341360" cy="812520"/>
            </a:xfrm>
            <a:prstGeom prst="pi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1"/>
            <p:cNvSpPr/>
            <p:nvPr/>
          </p:nvSpPr>
          <p:spPr>
            <a:xfrm>
              <a:off x="3566880" y="5279760"/>
              <a:ext cx="1341360" cy="812880"/>
            </a:xfrm>
            <a:prstGeom prst="pie">
              <a:avLst/>
            </a:prstGeom>
            <a:noFill/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56"/>
            <p:cNvSpPr/>
            <p:nvPr/>
          </p:nvSpPr>
          <p:spPr>
            <a:xfrm flipH="1" flipV="1">
              <a:off x="5219280" y="4339800"/>
              <a:ext cx="3240" cy="3240"/>
            </a:xfrm>
            <a:prstGeom prst="line">
              <a:avLst/>
            </a:prstGeom>
            <a:ln w="3240">
              <a:solidFill>
                <a:srgbClr val="131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"/>
            <p:cNvSpPr/>
            <p:nvPr/>
          </p:nvSpPr>
          <p:spPr>
            <a:xfrm>
              <a:off x="4259160" y="3851280"/>
              <a:ext cx="144360" cy="14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Futura Lt BT"/>
                </a:rPr>
                <a:t>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e 9"/>
            <p:cNvSpPr/>
            <p:nvPr/>
          </p:nvSpPr>
          <p:spPr>
            <a:xfrm>
              <a:off x="2674800" y="1763640"/>
              <a:ext cx="144360" cy="1285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e 9"/>
            <p:cNvSpPr/>
            <p:nvPr/>
          </p:nvSpPr>
          <p:spPr>
            <a:xfrm>
              <a:off x="3682800" y="3490920"/>
              <a:ext cx="144360" cy="1285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516720" y="4797360"/>
            <a:ext cx="2611440" cy="961560"/>
            <a:chOff x="6516720" y="4797360"/>
            <a:chExt cx="2611440" cy="961560"/>
          </a:xfrm>
        </p:grpSpPr>
        <p:sp>
          <p:nvSpPr>
            <p:cNvPr id="439" name="CasellaDiTesto 11"/>
            <p:cNvSpPr/>
            <p:nvPr/>
          </p:nvSpPr>
          <p:spPr>
            <a:xfrm>
              <a:off x="6877080" y="5302080"/>
              <a:ext cx="22510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Impianto Associato FrecciaRos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6554880" y="4870080"/>
              <a:ext cx="214200" cy="214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e 14"/>
            <p:cNvSpPr/>
            <p:nvPr/>
          </p:nvSpPr>
          <p:spPr>
            <a:xfrm>
              <a:off x="6516720" y="5373360"/>
              <a:ext cx="285840" cy="2854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CasellaDiTesto 13"/>
            <p:cNvSpPr/>
            <p:nvPr/>
          </p:nvSpPr>
          <p:spPr>
            <a:xfrm>
              <a:off x="6804000" y="4797360"/>
              <a:ext cx="2271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Sede Gestione Equipaggi FrecciaRos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56"/>
          <p:cNvSpPr/>
          <p:nvPr/>
        </p:nvSpPr>
        <p:spPr>
          <a:xfrm>
            <a:off x="217440" y="187200"/>
            <a:ext cx="8675640" cy="506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Impianto Equipaggi per “Freccia Argen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9"/>
          <p:cNvSpPr/>
          <p:nvPr/>
        </p:nvSpPr>
        <p:spPr>
          <a:xfrm>
            <a:off x="1090440" y="1008000"/>
            <a:ext cx="4776840" cy="4357800"/>
          </a:xfrm>
          <a:prstGeom prst="pie">
            <a:avLst/>
          </a:prstGeom>
          <a:solidFill>
            <a:srgbClr val="ccffc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3132000" y="3241800"/>
            <a:ext cx="214560" cy="21420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CasellaDiTesto 33"/>
          <p:cNvSpPr/>
          <p:nvPr/>
        </p:nvSpPr>
        <p:spPr>
          <a:xfrm>
            <a:off x="4717800" y="5315040"/>
            <a:ext cx="348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CasellaDiTesto 35"/>
          <p:cNvSpPr/>
          <p:nvPr/>
        </p:nvSpPr>
        <p:spPr>
          <a:xfrm>
            <a:off x="3205080" y="3457440"/>
            <a:ext cx="3603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e 11"/>
          <p:cNvSpPr/>
          <p:nvPr/>
        </p:nvSpPr>
        <p:spPr>
          <a:xfrm>
            <a:off x="2987640" y="1657440"/>
            <a:ext cx="214200" cy="1998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asellaDiTesto 12"/>
          <p:cNvSpPr/>
          <p:nvPr/>
        </p:nvSpPr>
        <p:spPr>
          <a:xfrm>
            <a:off x="4915080" y="3714840"/>
            <a:ext cx="448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CasellaDiTesto 15"/>
          <p:cNvSpPr/>
          <p:nvPr/>
        </p:nvSpPr>
        <p:spPr>
          <a:xfrm>
            <a:off x="3133080" y="1800360"/>
            <a:ext cx="335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20"/>
          <p:cNvSpPr/>
          <p:nvPr/>
        </p:nvSpPr>
        <p:spPr>
          <a:xfrm>
            <a:off x="1654200" y="3844800"/>
            <a:ext cx="685800" cy="1155960"/>
          </a:xfrm>
          <a:prstGeom prst="pie">
            <a:avLst/>
          </a:prstGeom>
          <a:solidFill>
            <a:srgbClr val="ccffc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21"/>
          <p:cNvSpPr/>
          <p:nvPr/>
        </p:nvSpPr>
        <p:spPr>
          <a:xfrm>
            <a:off x="3382920" y="5208480"/>
            <a:ext cx="1341360" cy="812880"/>
          </a:xfrm>
          <a:prstGeom prst="pie">
            <a:avLst/>
          </a:prstGeom>
          <a:solidFill>
            <a:srgbClr val="ccffc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e 19"/>
          <p:cNvSpPr/>
          <p:nvPr/>
        </p:nvSpPr>
        <p:spPr>
          <a:xfrm>
            <a:off x="6515280" y="5013360"/>
            <a:ext cx="285480" cy="28584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6553080" y="4508640"/>
            <a:ext cx="214560" cy="21420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CasellaDiTesto 18"/>
          <p:cNvSpPr/>
          <p:nvPr/>
        </p:nvSpPr>
        <p:spPr>
          <a:xfrm>
            <a:off x="6734160" y="4437000"/>
            <a:ext cx="2089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de Gestione Equipaggi FrecciaArg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CasellaDiTesto 11"/>
          <p:cNvSpPr/>
          <p:nvPr/>
        </p:nvSpPr>
        <p:spPr>
          <a:xfrm>
            <a:off x="6784920" y="4916520"/>
            <a:ext cx="225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ianto Associato FrecciaArg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CasellaDiTesto 37"/>
          <p:cNvSpPr/>
          <p:nvPr/>
        </p:nvSpPr>
        <p:spPr>
          <a:xfrm>
            <a:off x="3996000" y="3816360"/>
            <a:ext cx="4485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CasellaDiTesto 37"/>
          <p:cNvSpPr/>
          <p:nvPr/>
        </p:nvSpPr>
        <p:spPr>
          <a:xfrm>
            <a:off x="2789640" y="2305080"/>
            <a:ext cx="486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●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asellaDiTesto 37"/>
          <p:cNvSpPr/>
          <p:nvPr/>
        </p:nvSpPr>
        <p:spPr>
          <a:xfrm>
            <a:off x="3348000" y="2592360"/>
            <a:ext cx="5763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●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02560" y="5516640"/>
            <a:ext cx="11332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o di 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71640" y="252108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92360" y="280836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67280" y="403380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15280" y="566100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19640" y="3960720"/>
            <a:ext cx="3603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6360" y="5329080"/>
            <a:ext cx="3603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56"/>
          <p:cNvSpPr/>
          <p:nvPr/>
        </p:nvSpPr>
        <p:spPr>
          <a:xfrm>
            <a:off x="217440" y="187200"/>
            <a:ext cx="8675640" cy="506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Impianti Equipaggi per “Freccia Bian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48"/>
          <p:cNvSpPr/>
          <p:nvPr/>
        </p:nvSpPr>
        <p:spPr>
          <a:xfrm>
            <a:off x="1476360" y="1022400"/>
            <a:ext cx="4776840" cy="4357800"/>
          </a:xfrm>
          <a:prstGeom prst="pie">
            <a:avLst/>
          </a:prstGeom>
          <a:solidFill>
            <a:srgbClr val="ccffc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CasellaDiTesto 35"/>
          <p:cNvSpPr/>
          <p:nvPr/>
        </p:nvSpPr>
        <p:spPr>
          <a:xfrm>
            <a:off x="3574440" y="3408480"/>
            <a:ext cx="4914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asellaDiTesto 13"/>
          <p:cNvSpPr/>
          <p:nvPr/>
        </p:nvSpPr>
        <p:spPr>
          <a:xfrm>
            <a:off x="4814280" y="3754440"/>
            <a:ext cx="3420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CasellaDiTesto 14"/>
          <p:cNvSpPr/>
          <p:nvPr/>
        </p:nvSpPr>
        <p:spPr>
          <a:xfrm>
            <a:off x="3647880" y="2624040"/>
            <a:ext cx="348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CasellaDiTesto 15"/>
          <p:cNvSpPr/>
          <p:nvPr/>
        </p:nvSpPr>
        <p:spPr>
          <a:xfrm>
            <a:off x="3638160" y="1785960"/>
            <a:ext cx="335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asellaDiTesto 22"/>
          <p:cNvSpPr/>
          <p:nvPr/>
        </p:nvSpPr>
        <p:spPr>
          <a:xfrm>
            <a:off x="2062080" y="2155680"/>
            <a:ext cx="477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2651040" y="1766880"/>
            <a:ext cx="21456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asellaDiTesto 25"/>
          <p:cNvSpPr/>
          <p:nvPr/>
        </p:nvSpPr>
        <p:spPr>
          <a:xfrm>
            <a:off x="2723760" y="1981080"/>
            <a:ext cx="309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e 39"/>
          <p:cNvSpPr/>
          <p:nvPr/>
        </p:nvSpPr>
        <p:spPr>
          <a:xfrm>
            <a:off x="3936960" y="2552760"/>
            <a:ext cx="214200" cy="199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7"/>
          <p:cNvSpPr/>
          <p:nvPr/>
        </p:nvSpPr>
        <p:spPr>
          <a:xfrm flipH="1">
            <a:off x="6332040" y="4162320"/>
            <a:ext cx="3240" cy="0"/>
          </a:xfrm>
          <a:prstGeom prst="line">
            <a:avLst/>
          </a:prstGeom>
          <a:ln w="3240">
            <a:solidFill>
              <a:srgbClr val="131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4"/>
          <p:cNvSpPr/>
          <p:nvPr/>
        </p:nvSpPr>
        <p:spPr>
          <a:xfrm flipH="1" flipV="1">
            <a:off x="6311520" y="4133520"/>
            <a:ext cx="3240" cy="3240"/>
          </a:xfrm>
          <a:prstGeom prst="line">
            <a:avLst/>
          </a:prstGeom>
          <a:ln w="3240">
            <a:solidFill>
              <a:srgbClr val="131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49"/>
          <p:cNvSpPr/>
          <p:nvPr/>
        </p:nvSpPr>
        <p:spPr>
          <a:xfrm>
            <a:off x="3753000" y="5208480"/>
            <a:ext cx="1341360" cy="812880"/>
          </a:xfrm>
          <a:prstGeom prst="pie">
            <a:avLst/>
          </a:prstGeom>
          <a:solidFill>
            <a:srgbClr val="ccffc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50"/>
          <p:cNvSpPr/>
          <p:nvPr/>
        </p:nvSpPr>
        <p:spPr>
          <a:xfrm>
            <a:off x="2017800" y="3859200"/>
            <a:ext cx="685800" cy="1155600"/>
          </a:xfrm>
          <a:prstGeom prst="pie">
            <a:avLst/>
          </a:prstGeom>
          <a:solidFill>
            <a:srgbClr val="ccffc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1"/>
          <p:cNvSpPr/>
          <p:nvPr/>
        </p:nvSpPr>
        <p:spPr>
          <a:xfrm>
            <a:off x="7596360" y="1341360"/>
            <a:ext cx="244764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e 39"/>
          <p:cNvSpPr/>
          <p:nvPr/>
        </p:nvSpPr>
        <p:spPr>
          <a:xfrm>
            <a:off x="4870440" y="3568680"/>
            <a:ext cx="214200" cy="200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85240" y="5459400"/>
            <a:ext cx="11332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o di 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2401920"/>
            <a:ext cx="4334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45000" y="3625920"/>
            <a:ext cx="4334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32720" y="5589720"/>
            <a:ext cx="43308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e 39"/>
          <p:cNvSpPr/>
          <p:nvPr/>
        </p:nvSpPr>
        <p:spPr>
          <a:xfrm>
            <a:off x="3432240" y="1768320"/>
            <a:ext cx="214200" cy="200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e 39"/>
          <p:cNvSpPr/>
          <p:nvPr/>
        </p:nvSpPr>
        <p:spPr>
          <a:xfrm>
            <a:off x="6805440" y="5157720"/>
            <a:ext cx="214560" cy="200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184520" y="5013360"/>
            <a:ext cx="1473120" cy="459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ianto Associ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ccia Bi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6805440" y="4654440"/>
            <a:ext cx="214560" cy="21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202520" y="4508640"/>
            <a:ext cx="1918080" cy="459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e Gestione Equipa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ccia Bi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84200" y="2446200"/>
            <a:ext cx="8158320" cy="1432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Black"/>
              </a:rPr>
              <a:t>Divisione Passeggeri N/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 Black"/>
              </a:rPr>
              <a:t>“</a:t>
            </a:r>
            <a:r>
              <a:rPr b="0" i="1" lang="en-US" sz="2800" spc="-1" strike="noStrike">
                <a:solidFill>
                  <a:srgbClr val="333333"/>
                </a:solidFill>
                <a:latin typeface="Arial Black"/>
              </a:rPr>
              <a:t>Progetto Esercizio DPN/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09760" y="1557360"/>
            <a:ext cx="8277120" cy="3383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ddivisione AS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i Traffico per “Linee di Prodotto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 Operative e “Tramiti Territoriali” per “Linee di Prodotto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ianti di Manutenzione per “Linee di Prodotto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ianti Equipaggi per “Linee di Prodott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2240" y="268200"/>
            <a:ext cx="7861320" cy="518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Arial"/>
              </a:rPr>
              <a:t>Suddivision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1501920"/>
            <a:ext cx="291780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FRECCIAROS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46880" y="1562040"/>
            <a:ext cx="2260440" cy="35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utura Lt BT"/>
              </a:rPr>
              <a:t>Flotta ETR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94160" y="1628640"/>
            <a:ext cx="863640" cy="216000"/>
          </a:xfrm>
          <a:custGeom>
            <a:avLst/>
            <a:gdLst>
              <a:gd name="textAreaLeft" fmla="*/ 135000 w 863640"/>
              <a:gd name="textAreaRight" fmla="*/ 756000 w 86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1440" y="2583000"/>
            <a:ext cx="291780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FRECCIARG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276640"/>
            <a:ext cx="3198960" cy="35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utura Lt BT"/>
              </a:rPr>
              <a:t>Flotta ETR 485/4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97400" y="2709720"/>
            <a:ext cx="863640" cy="216000"/>
          </a:xfrm>
          <a:custGeom>
            <a:avLst/>
            <a:gdLst>
              <a:gd name="textAreaLeft" fmla="*/ 135000 w 863640"/>
              <a:gd name="textAreaRight" fmla="*/ 756000 w 86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56240" y="2637000"/>
            <a:ext cx="2260440" cy="35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utura Lt BT"/>
              </a:rPr>
              <a:t>Flotta ETR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4160" y="2997360"/>
            <a:ext cx="2260800" cy="35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utura Lt BT"/>
              </a:rPr>
              <a:t>Flotta ETR 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0160" y="4094280"/>
            <a:ext cx="2917800" cy="41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a Lt BT"/>
              </a:rPr>
              <a:t>FRECCIABIAN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4160" y="4221000"/>
            <a:ext cx="863640" cy="216000"/>
          </a:xfrm>
          <a:custGeom>
            <a:avLst/>
            <a:gdLst>
              <a:gd name="textAreaLeft" fmla="*/ 135000 w 863640"/>
              <a:gd name="textAreaRight" fmla="*/ 756000 w 86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3789360"/>
            <a:ext cx="2808360" cy="35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utura Lt BT"/>
              </a:rPr>
              <a:t>Flotta E 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4149720"/>
            <a:ext cx="2619360" cy="35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Futura Lt BT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Futura Lt BT"/>
              </a:rPr>
              <a:t>Flotta ETR 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3800" y="4510080"/>
            <a:ext cx="2914560" cy="354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Futura Lt BT"/>
              </a:rPr>
              <a:t>  </a:t>
            </a:r>
            <a:r>
              <a:rPr b="1" i="1" lang="it-IT" sz="1800" spc="-1" strike="noStrike">
                <a:solidFill>
                  <a:srgbClr val="000000"/>
                </a:solidFill>
                <a:latin typeface="Futura Lt BT"/>
              </a:rPr>
              <a:t>Flotta ES*City (901+3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457200" y="921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i Traffico per “Linee di Prodott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ugno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2920" y="1071720"/>
          <a:ext cx="8715240" cy="4852800"/>
        </p:xfrm>
        <a:graphic>
          <a:graphicData uri="http://schemas.openxmlformats.org/drawingml/2006/table">
            <a:tbl>
              <a:tblPr/>
              <a:tblGrid>
                <a:gridCol w="1224000"/>
                <a:gridCol w="1332000"/>
                <a:gridCol w="1049040"/>
                <a:gridCol w="2106720"/>
                <a:gridCol w="1739880"/>
                <a:gridCol w="1263600"/>
              </a:tblGrid>
              <a:tr h="73152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OT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LOG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ET ATTU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NI TOTALI AN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NI MEDI/GIOR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</a:tr>
              <a:tr h="37476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ccia Ros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R500 (12w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220.2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.5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R500 (8w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rowSpan="3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ccia Argen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R4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3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334.3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3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5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rowSpan="3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R485/4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R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ccia Bian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E4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 tre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231.8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.5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E402A/E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tre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rowSpan="4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vizi di B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200 Km/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IORNO (IC) : 15.275.4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4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.8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4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160 Km/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TE : 19.180.5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it-IT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.LE : 6.745.8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 : 41.201.8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38"/>
          <p:cNvSpPr/>
          <p:nvPr/>
        </p:nvSpPr>
        <p:spPr>
          <a:xfrm>
            <a:off x="1187280" y="936720"/>
            <a:ext cx="4776840" cy="435744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6"/>
          <p:cNvSpPr/>
          <p:nvPr/>
        </p:nvSpPr>
        <p:spPr>
          <a:xfrm>
            <a:off x="217440" y="187200"/>
            <a:ext cx="8675640" cy="506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Relazioni servite per “Linee di Prodot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9"/>
          <p:cNvSpPr/>
          <p:nvPr/>
        </p:nvSpPr>
        <p:spPr>
          <a:xfrm>
            <a:off x="1736640" y="3782880"/>
            <a:ext cx="685800" cy="115596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40"/>
          <p:cNvSpPr/>
          <p:nvPr/>
        </p:nvSpPr>
        <p:spPr>
          <a:xfrm>
            <a:off x="3448080" y="5208480"/>
            <a:ext cx="1341360" cy="81288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48080" y="3486240"/>
            <a:ext cx="147600" cy="15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95720" y="3774960"/>
            <a:ext cx="147600" cy="15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2708280"/>
            <a:ext cx="147600" cy="15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40120" y="2104920"/>
            <a:ext cx="147600" cy="15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40080" y="1541520"/>
            <a:ext cx="147600" cy="15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89200" y="1700280"/>
            <a:ext cx="147600" cy="15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0480" y="1557360"/>
            <a:ext cx="147600" cy="158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563640" y="3573360"/>
            <a:ext cx="64764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131640" y="2781000"/>
            <a:ext cx="360360" cy="71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987280" y="2204640"/>
            <a:ext cx="14436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556000" y="1628280"/>
            <a:ext cx="50328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907640" y="1628640"/>
            <a:ext cx="57636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016080" y="1628280"/>
            <a:ext cx="331920" cy="505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11"/>
          <p:cNvSpPr/>
          <p:nvPr/>
        </p:nvSpPr>
        <p:spPr>
          <a:xfrm>
            <a:off x="3132000" y="3645000"/>
            <a:ext cx="7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R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11"/>
          <p:cNvSpPr/>
          <p:nvPr/>
        </p:nvSpPr>
        <p:spPr>
          <a:xfrm>
            <a:off x="3857760" y="3975120"/>
            <a:ext cx="714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AP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sellaDiTesto 11"/>
          <p:cNvSpPr/>
          <p:nvPr/>
        </p:nvSpPr>
        <p:spPr>
          <a:xfrm>
            <a:off x="3132000" y="2752560"/>
            <a:ext cx="93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IR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11"/>
          <p:cNvSpPr/>
          <p:nvPr/>
        </p:nvSpPr>
        <p:spPr>
          <a:xfrm>
            <a:off x="2987640" y="2205000"/>
            <a:ext cx="93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OLOG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11"/>
          <p:cNvSpPr/>
          <p:nvPr/>
        </p:nvSpPr>
        <p:spPr>
          <a:xfrm>
            <a:off x="3348000" y="1628640"/>
            <a:ext cx="93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VENEZ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asellaDiTesto 11"/>
          <p:cNvSpPr/>
          <p:nvPr/>
        </p:nvSpPr>
        <p:spPr>
          <a:xfrm>
            <a:off x="2340000" y="1341360"/>
            <a:ext cx="93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IL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sellaDiTesto 11"/>
          <p:cNvSpPr/>
          <p:nvPr/>
        </p:nvSpPr>
        <p:spPr>
          <a:xfrm>
            <a:off x="1403280" y="1484280"/>
            <a:ext cx="93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OR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2141640"/>
            <a:ext cx="3816360" cy="56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utura Lt BT"/>
              </a:rPr>
              <a:t>FRECCIARO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140000" y="3860280"/>
            <a:ext cx="36036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sellaDiTesto 11"/>
          <p:cNvSpPr/>
          <p:nvPr/>
        </p:nvSpPr>
        <p:spPr>
          <a:xfrm>
            <a:off x="4356000" y="4221000"/>
            <a:ext cx="93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ALER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13440" y="5373720"/>
            <a:ext cx="442728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7900"/>
                </a:solidFill>
                <a:latin typeface="Arial"/>
              </a:rPr>
              <a:t>Orario Dic. 2009 : Proiezione a t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38"/>
          <p:cNvSpPr/>
          <p:nvPr/>
        </p:nvSpPr>
        <p:spPr>
          <a:xfrm>
            <a:off x="250920" y="981000"/>
            <a:ext cx="4776840" cy="435780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6"/>
          <p:cNvSpPr/>
          <p:nvPr/>
        </p:nvSpPr>
        <p:spPr>
          <a:xfrm>
            <a:off x="217440" y="187200"/>
            <a:ext cx="8675640" cy="506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Relazioni servite per “Linee di Prodot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9"/>
          <p:cNvSpPr/>
          <p:nvPr/>
        </p:nvSpPr>
        <p:spPr>
          <a:xfrm>
            <a:off x="800280" y="3782880"/>
            <a:ext cx="685800" cy="115596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40"/>
          <p:cNvSpPr/>
          <p:nvPr/>
        </p:nvSpPr>
        <p:spPr>
          <a:xfrm>
            <a:off x="2511360" y="5208480"/>
            <a:ext cx="1341360" cy="81288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1360" y="348624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0560" y="384660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51000" y="270828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3400" y="213372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3760" y="155736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655720" y="3573000"/>
            <a:ext cx="331920" cy="1429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23720" y="2852280"/>
            <a:ext cx="36036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079720" y="2276640"/>
            <a:ext cx="115920" cy="504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22560" y="1628280"/>
            <a:ext cx="288720" cy="576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35320" y="364500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87640" y="371628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987640" y="3715920"/>
            <a:ext cx="216000" cy="144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499896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274560" y="3933720"/>
            <a:ext cx="647640" cy="287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22200" y="4221000"/>
            <a:ext cx="289080" cy="648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67280" y="4868640"/>
            <a:ext cx="144360" cy="215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4880" y="110952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11440" y="126684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195280" y="1196640"/>
            <a:ext cx="215640" cy="431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11280" y="1341360"/>
            <a:ext cx="287640" cy="2872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112536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979640" y="1773000"/>
            <a:ext cx="71280" cy="431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1560" y="211788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256536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627280" y="2708280"/>
            <a:ext cx="216000" cy="79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906560" y="2707920"/>
            <a:ext cx="649440" cy="865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258560" y="2205000"/>
            <a:ext cx="647640" cy="503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87280" y="3716280"/>
            <a:ext cx="12970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4211280" y="3715920"/>
            <a:ext cx="647640" cy="2890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82960" y="3917880"/>
            <a:ext cx="14796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4400" y="391788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419640" y="4005360"/>
            <a:ext cx="1079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sellaDiTesto 11"/>
          <p:cNvSpPr/>
          <p:nvPr/>
        </p:nvSpPr>
        <p:spPr>
          <a:xfrm>
            <a:off x="2195640" y="3645000"/>
            <a:ext cx="714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R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sellaDiTesto 11"/>
          <p:cNvSpPr/>
          <p:nvPr/>
        </p:nvSpPr>
        <p:spPr>
          <a:xfrm>
            <a:off x="2633760" y="3903840"/>
            <a:ext cx="714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AP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sellaDiTesto 11"/>
          <p:cNvSpPr/>
          <p:nvPr/>
        </p:nvSpPr>
        <p:spPr>
          <a:xfrm>
            <a:off x="3492360" y="508464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REGGIO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sellaDiTesto 11"/>
          <p:cNvSpPr/>
          <p:nvPr/>
        </p:nvSpPr>
        <p:spPr>
          <a:xfrm>
            <a:off x="3994200" y="342900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sellaDiTesto 11"/>
          <p:cNvSpPr/>
          <p:nvPr/>
        </p:nvSpPr>
        <p:spPr>
          <a:xfrm>
            <a:off x="4716360" y="386064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EC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sellaDiTesto 11"/>
          <p:cNvSpPr/>
          <p:nvPr/>
        </p:nvSpPr>
        <p:spPr>
          <a:xfrm>
            <a:off x="4140360" y="412128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ARA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sellaDiTesto 11"/>
          <p:cNvSpPr/>
          <p:nvPr/>
        </p:nvSpPr>
        <p:spPr>
          <a:xfrm>
            <a:off x="2698920" y="234936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NC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sellaDiTesto 11"/>
          <p:cNvSpPr/>
          <p:nvPr/>
        </p:nvSpPr>
        <p:spPr>
          <a:xfrm>
            <a:off x="611280" y="227664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ENO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sellaDiTesto 11"/>
          <p:cNvSpPr/>
          <p:nvPr/>
        </p:nvSpPr>
        <p:spPr>
          <a:xfrm>
            <a:off x="1474920" y="224784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OLOG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11"/>
          <p:cNvSpPr/>
          <p:nvPr/>
        </p:nvSpPr>
        <p:spPr>
          <a:xfrm>
            <a:off x="2340000" y="167148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VENEZ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1"/>
          <p:cNvSpPr/>
          <p:nvPr/>
        </p:nvSpPr>
        <p:spPr>
          <a:xfrm>
            <a:off x="1835280" y="253692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IR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sellaDiTesto 11"/>
          <p:cNvSpPr/>
          <p:nvPr/>
        </p:nvSpPr>
        <p:spPr>
          <a:xfrm>
            <a:off x="2050920" y="95256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D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sellaDiTesto 11"/>
          <p:cNvSpPr/>
          <p:nvPr/>
        </p:nvSpPr>
        <p:spPr>
          <a:xfrm>
            <a:off x="2698920" y="117144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sellaDiTesto 11"/>
          <p:cNvSpPr/>
          <p:nvPr/>
        </p:nvSpPr>
        <p:spPr>
          <a:xfrm>
            <a:off x="1114560" y="102384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OLZ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148428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547640" y="1557000"/>
            <a:ext cx="503280" cy="647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sellaDiTesto 11"/>
          <p:cNvSpPr/>
          <p:nvPr/>
        </p:nvSpPr>
        <p:spPr>
          <a:xfrm>
            <a:off x="900000" y="134136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ERGA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4440" y="219060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sellaDiTesto 11"/>
          <p:cNvSpPr/>
          <p:nvPr/>
        </p:nvSpPr>
        <p:spPr>
          <a:xfrm>
            <a:off x="2411280" y="1989000"/>
            <a:ext cx="85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RIMI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411280" y="2276280"/>
            <a:ext cx="432000" cy="360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1268280"/>
            <a:ext cx="3816360" cy="56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Futura Lt BT"/>
              </a:rPr>
              <a:t>FRECCIARG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628640"/>
            <a:ext cx="14796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11"/>
          <p:cNvSpPr/>
          <p:nvPr/>
        </p:nvSpPr>
        <p:spPr>
          <a:xfrm>
            <a:off x="755640" y="1700280"/>
            <a:ext cx="86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RES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asellaDiTesto 11"/>
          <p:cNvSpPr/>
          <p:nvPr/>
        </p:nvSpPr>
        <p:spPr>
          <a:xfrm>
            <a:off x="1619280" y="1413000"/>
            <a:ext cx="720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VR/V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6560" y="162864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1907640" y="1268280"/>
            <a:ext cx="71640" cy="43200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2060640"/>
            <a:ext cx="4608720" cy="1321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zioni veloci in 3h 59’ verso/da R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zioni AV (Napoli) - Roma - Venez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zioni verso bacini di 2° livello (BS/VC/BZ/TA) e relazioni di 2° liv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32360" y="5589720"/>
            <a:ext cx="442764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7900"/>
                </a:solidFill>
                <a:latin typeface="Arial"/>
              </a:rPr>
              <a:t>Orario Dic. 2009 : Proiezione a t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37120" y="4710240"/>
            <a:ext cx="147600" cy="1587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llaDiTesto 11"/>
          <p:cNvSpPr/>
          <p:nvPr/>
        </p:nvSpPr>
        <p:spPr>
          <a:xfrm>
            <a:off x="4211640" y="465300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AMEZ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1700280"/>
            <a:ext cx="79200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38"/>
          <p:cNvSpPr/>
          <p:nvPr/>
        </p:nvSpPr>
        <p:spPr>
          <a:xfrm>
            <a:off x="1187280" y="936720"/>
            <a:ext cx="4776840" cy="435744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217440" y="187200"/>
            <a:ext cx="8675640" cy="506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Relazioni servite per “Linee di Prodot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9"/>
          <p:cNvSpPr/>
          <p:nvPr/>
        </p:nvSpPr>
        <p:spPr>
          <a:xfrm>
            <a:off x="1736640" y="3782880"/>
            <a:ext cx="685800" cy="115596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0"/>
          <p:cNvSpPr/>
          <p:nvPr/>
        </p:nvSpPr>
        <p:spPr>
          <a:xfrm>
            <a:off x="3448080" y="5208480"/>
            <a:ext cx="1341360" cy="81288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48080" y="348624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87720" y="263700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33840" y="262260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00480" y="155736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72040" y="366408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1120" y="393372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81240" y="110952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48160" y="126684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73240" y="209232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56536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19680" y="298296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080" y="154152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89200" y="170028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908000" y="1844280"/>
            <a:ext cx="216000" cy="289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07640" y="1628640"/>
            <a:ext cx="576360" cy="144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556000" y="16286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157560" y="1196640"/>
            <a:ext cx="216000" cy="431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276720" y="1341360"/>
            <a:ext cx="287280" cy="71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195280" y="2205000"/>
            <a:ext cx="647640" cy="5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881080" y="270828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771280" y="2707920"/>
            <a:ext cx="792360" cy="865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52720" y="210816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484360" y="1628280"/>
            <a:ext cx="503280" cy="505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1160" y="226224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348000" y="2349000"/>
            <a:ext cx="43200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059280" y="2224080"/>
            <a:ext cx="28872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779640" y="2707920"/>
            <a:ext cx="21564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3995640" y="3103200"/>
            <a:ext cx="1152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9680" y="3917880"/>
            <a:ext cx="14760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148000" y="3715920"/>
            <a:ext cx="647640" cy="28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asellaDiTesto 11"/>
          <p:cNvSpPr/>
          <p:nvPr/>
        </p:nvSpPr>
        <p:spPr>
          <a:xfrm>
            <a:off x="3132000" y="3645000"/>
            <a:ext cx="7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R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asellaDiTesto 11"/>
          <p:cNvSpPr/>
          <p:nvPr/>
        </p:nvSpPr>
        <p:spPr>
          <a:xfrm>
            <a:off x="2344680" y="2708280"/>
            <a:ext cx="7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PI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sellaDiTesto 11"/>
          <p:cNvSpPr/>
          <p:nvPr/>
        </p:nvSpPr>
        <p:spPr>
          <a:xfrm>
            <a:off x="2994120" y="278136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IR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asellaDiTesto 11"/>
          <p:cNvSpPr/>
          <p:nvPr/>
        </p:nvSpPr>
        <p:spPr>
          <a:xfrm>
            <a:off x="1692360" y="224784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ENO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asellaDiTesto 11"/>
          <p:cNvSpPr/>
          <p:nvPr/>
        </p:nvSpPr>
        <p:spPr>
          <a:xfrm>
            <a:off x="1332000" y="152892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OR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sellaDiTesto 11"/>
          <p:cNvSpPr/>
          <p:nvPr/>
        </p:nvSpPr>
        <p:spPr>
          <a:xfrm>
            <a:off x="2058840" y="1341360"/>
            <a:ext cx="85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IL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sellaDiTesto 11"/>
          <p:cNvSpPr/>
          <p:nvPr/>
        </p:nvSpPr>
        <p:spPr>
          <a:xfrm>
            <a:off x="3570120" y="2320920"/>
            <a:ext cx="85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NC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asellaDiTesto 11"/>
          <p:cNvSpPr/>
          <p:nvPr/>
        </p:nvSpPr>
        <p:spPr>
          <a:xfrm>
            <a:off x="3930480" y="2824200"/>
            <a:ext cx="85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PESC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asellaDiTesto 11"/>
          <p:cNvSpPr/>
          <p:nvPr/>
        </p:nvSpPr>
        <p:spPr>
          <a:xfrm>
            <a:off x="5010120" y="347184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asellaDiTesto 11"/>
          <p:cNvSpPr/>
          <p:nvPr/>
        </p:nvSpPr>
        <p:spPr>
          <a:xfrm>
            <a:off x="6162840" y="376092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EC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asellaDiTesto 11"/>
          <p:cNvSpPr/>
          <p:nvPr/>
        </p:nvSpPr>
        <p:spPr>
          <a:xfrm>
            <a:off x="3570120" y="2060640"/>
            <a:ext cx="85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RIMI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asellaDiTesto 11"/>
          <p:cNvSpPr/>
          <p:nvPr/>
        </p:nvSpPr>
        <p:spPr>
          <a:xfrm>
            <a:off x="2778120" y="1889280"/>
            <a:ext cx="1073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OLOG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asellaDiTesto 11"/>
          <p:cNvSpPr/>
          <p:nvPr/>
        </p:nvSpPr>
        <p:spPr>
          <a:xfrm>
            <a:off x="3562200" y="167148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VENEZ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sellaDiTesto 11"/>
          <p:cNvSpPr/>
          <p:nvPr/>
        </p:nvSpPr>
        <p:spPr>
          <a:xfrm>
            <a:off x="2987640" y="95256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D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asellaDiTesto 11"/>
          <p:cNvSpPr/>
          <p:nvPr/>
        </p:nvSpPr>
        <p:spPr>
          <a:xfrm>
            <a:off x="3851280" y="117144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asellaDiTesto 11"/>
          <p:cNvSpPr/>
          <p:nvPr/>
        </p:nvSpPr>
        <p:spPr>
          <a:xfrm>
            <a:off x="5076720" y="412128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ARA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2141640"/>
            <a:ext cx="3816360" cy="56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Futura Lt BT"/>
              </a:rPr>
              <a:t>FRECCIABIAN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148360" y="3789360"/>
            <a:ext cx="28728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5373720"/>
            <a:ext cx="442728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7900"/>
                </a:solidFill>
                <a:latin typeface="Arial"/>
              </a:rPr>
              <a:t>Orario Dic. 2009 : Proiezione a t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195640" y="1700280"/>
            <a:ext cx="288720" cy="43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3213000"/>
            <a:ext cx="144000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38"/>
          <p:cNvSpPr/>
          <p:nvPr/>
        </p:nvSpPr>
        <p:spPr>
          <a:xfrm>
            <a:off x="1187280" y="936720"/>
            <a:ext cx="4776840" cy="435744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6"/>
          <p:cNvSpPr/>
          <p:nvPr/>
        </p:nvSpPr>
        <p:spPr>
          <a:xfrm>
            <a:off x="217440" y="187200"/>
            <a:ext cx="8675640" cy="506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Relazioni servite per “Linee di Prodot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9"/>
          <p:cNvSpPr/>
          <p:nvPr/>
        </p:nvSpPr>
        <p:spPr>
          <a:xfrm>
            <a:off x="1736640" y="3782880"/>
            <a:ext cx="685800" cy="115596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40"/>
          <p:cNvSpPr/>
          <p:nvPr/>
        </p:nvSpPr>
        <p:spPr>
          <a:xfrm>
            <a:off x="3448080" y="5208480"/>
            <a:ext cx="1341360" cy="812880"/>
          </a:xfrm>
          <a:prstGeom prst="pie">
            <a:avLst/>
          </a:prstGeom>
          <a:solidFill>
            <a:srgbClr val="00ff00">
              <a:alpha val="3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48080" y="348624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384660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33840" y="262260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2040" y="366408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61120" y="393372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73240" y="209232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08360" y="256536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19680" y="298296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0080" y="154152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89200" y="170028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195640" y="1628280"/>
            <a:ext cx="288720" cy="505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908000" y="1844280"/>
            <a:ext cx="216000" cy="289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2195280" y="2205000"/>
            <a:ext cx="647640" cy="503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771280" y="2707920"/>
            <a:ext cx="792360" cy="865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51160" y="226224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3348000" y="2349000"/>
            <a:ext cx="432000" cy="287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779640" y="2707920"/>
            <a:ext cx="21564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3995640" y="3068280"/>
            <a:ext cx="1152720" cy="647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5148360" y="3715920"/>
            <a:ext cx="287280" cy="289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sellaDiTesto 11"/>
          <p:cNvSpPr/>
          <p:nvPr/>
        </p:nvSpPr>
        <p:spPr>
          <a:xfrm>
            <a:off x="3132000" y="3645000"/>
            <a:ext cx="7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RO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asellaDiTesto 11"/>
          <p:cNvSpPr/>
          <p:nvPr/>
        </p:nvSpPr>
        <p:spPr>
          <a:xfrm>
            <a:off x="2344680" y="2637000"/>
            <a:ext cx="7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PI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sellaDiTesto 11"/>
          <p:cNvSpPr/>
          <p:nvPr/>
        </p:nvSpPr>
        <p:spPr>
          <a:xfrm>
            <a:off x="1692360" y="224784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ENO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asellaDiTesto 11"/>
          <p:cNvSpPr/>
          <p:nvPr/>
        </p:nvSpPr>
        <p:spPr>
          <a:xfrm>
            <a:off x="1338120" y="1484280"/>
            <a:ext cx="85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OR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llaDiTesto 11"/>
          <p:cNvSpPr/>
          <p:nvPr/>
        </p:nvSpPr>
        <p:spPr>
          <a:xfrm>
            <a:off x="2058840" y="1268280"/>
            <a:ext cx="85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IL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llaDiTesto 11"/>
          <p:cNvSpPr/>
          <p:nvPr/>
        </p:nvSpPr>
        <p:spPr>
          <a:xfrm>
            <a:off x="3570120" y="2320920"/>
            <a:ext cx="85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NC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llaDiTesto 11"/>
          <p:cNvSpPr/>
          <p:nvPr/>
        </p:nvSpPr>
        <p:spPr>
          <a:xfrm>
            <a:off x="3995640" y="2824200"/>
            <a:ext cx="8575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PESC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llaDiTesto 11"/>
          <p:cNvSpPr/>
          <p:nvPr/>
        </p:nvSpPr>
        <p:spPr>
          <a:xfrm>
            <a:off x="5148360" y="347184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asellaDiTesto 11"/>
          <p:cNvSpPr/>
          <p:nvPr/>
        </p:nvSpPr>
        <p:spPr>
          <a:xfrm>
            <a:off x="3276720" y="206064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RIMI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sellaDiTesto 11"/>
          <p:cNvSpPr/>
          <p:nvPr/>
        </p:nvSpPr>
        <p:spPr>
          <a:xfrm>
            <a:off x="5291280" y="412128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ARA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asellaDiTesto 11"/>
          <p:cNvSpPr/>
          <p:nvPr/>
        </p:nvSpPr>
        <p:spPr>
          <a:xfrm>
            <a:off x="977760" y="2463840"/>
            <a:ext cx="11462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XXMIG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549440" y="2133720"/>
            <a:ext cx="574560" cy="287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asellaDiTesto 11"/>
          <p:cNvSpPr/>
          <p:nvPr/>
        </p:nvSpPr>
        <p:spPr>
          <a:xfrm>
            <a:off x="3713040" y="3975120"/>
            <a:ext cx="7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AP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87720" y="263700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52720" y="210816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563640" y="3573000"/>
            <a:ext cx="576360" cy="360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3131640" y="2708280"/>
            <a:ext cx="360360" cy="792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046320" y="2205000"/>
            <a:ext cx="98640" cy="503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484000" y="1628640"/>
            <a:ext cx="554040" cy="5637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890440" y="1230120"/>
            <a:ext cx="144360" cy="93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asellaDiTesto 11"/>
          <p:cNvSpPr/>
          <p:nvPr/>
        </p:nvSpPr>
        <p:spPr>
          <a:xfrm>
            <a:off x="2098800" y="98568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OLZ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01880" y="112536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00480" y="155736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48160" y="126684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asellaDiTesto 11"/>
          <p:cNvSpPr/>
          <p:nvPr/>
        </p:nvSpPr>
        <p:spPr>
          <a:xfrm>
            <a:off x="3562200" y="167148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VENEZ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asellaDiTesto 11"/>
          <p:cNvSpPr/>
          <p:nvPr/>
        </p:nvSpPr>
        <p:spPr>
          <a:xfrm>
            <a:off x="3851280" y="117144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IE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059280" y="1628280"/>
            <a:ext cx="288720" cy="505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348000" y="1341360"/>
            <a:ext cx="287280" cy="287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2987280" y="2204640"/>
            <a:ext cx="360360" cy="144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asellaDiTesto 11"/>
          <p:cNvSpPr/>
          <p:nvPr/>
        </p:nvSpPr>
        <p:spPr>
          <a:xfrm>
            <a:off x="2419200" y="2247840"/>
            <a:ext cx="1073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OLOG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asellaDiTesto 11"/>
          <p:cNvSpPr/>
          <p:nvPr/>
        </p:nvSpPr>
        <p:spPr>
          <a:xfrm>
            <a:off x="3276720" y="299736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PERUG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92360" y="285264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3131640" y="2708280"/>
            <a:ext cx="360360" cy="216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asellaDiTesto 11"/>
          <p:cNvSpPr/>
          <p:nvPr/>
        </p:nvSpPr>
        <p:spPr>
          <a:xfrm>
            <a:off x="2916360" y="249228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IR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4292640"/>
            <a:ext cx="14796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076720" y="4017600"/>
            <a:ext cx="142920" cy="36036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sellaDiTesto 11"/>
          <p:cNvSpPr/>
          <p:nvPr/>
        </p:nvSpPr>
        <p:spPr>
          <a:xfrm>
            <a:off x="5003640" y="436572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ROT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200560" y="3992400"/>
            <a:ext cx="235080" cy="5904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211280" y="3933720"/>
            <a:ext cx="647640" cy="287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858920" y="4221000"/>
            <a:ext cx="289080" cy="6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003640" y="4868640"/>
            <a:ext cx="144720" cy="215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32360" y="499896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asellaDiTesto 11"/>
          <p:cNvSpPr/>
          <p:nvPr/>
        </p:nvSpPr>
        <p:spPr>
          <a:xfrm>
            <a:off x="4427640" y="515772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REGGIO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19680" y="391788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148000" y="3715920"/>
            <a:ext cx="647640" cy="289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asellaDiTesto 11"/>
          <p:cNvSpPr/>
          <p:nvPr/>
        </p:nvSpPr>
        <p:spPr>
          <a:xfrm>
            <a:off x="5796000" y="376092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EC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924360" y="3716280"/>
            <a:ext cx="1224000" cy="7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88000" y="2141640"/>
            <a:ext cx="3816360" cy="56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Futura Lt BT"/>
              </a:rPr>
              <a:t>SERVIZI DI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51280" y="321300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3563640" y="2997000"/>
            <a:ext cx="360360" cy="215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CasellaDiTesto 11"/>
          <p:cNvSpPr/>
          <p:nvPr/>
        </p:nvSpPr>
        <p:spPr>
          <a:xfrm>
            <a:off x="3780000" y="3357720"/>
            <a:ext cx="857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ER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4653000"/>
            <a:ext cx="147600" cy="15876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sellaDiTesto 11"/>
          <p:cNvSpPr/>
          <p:nvPr/>
        </p:nvSpPr>
        <p:spPr>
          <a:xfrm>
            <a:off x="5292720" y="4797360"/>
            <a:ext cx="10810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ATANZ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5076720" y="4436640"/>
            <a:ext cx="287280" cy="28908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003640" y="4723920"/>
            <a:ext cx="360360" cy="36036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84720" y="5468760"/>
            <a:ext cx="442764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7900"/>
                </a:solidFill>
                <a:latin typeface="Arial"/>
              </a:rPr>
              <a:t>Orario Dic. 2009 : Proiezione a t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0:30:03Z</dcterms:created>
  <dc:creator>2760360</dc:creator>
  <dc:description/>
  <dc:language>en-US</dc:language>
  <cp:lastModifiedBy>Casa</cp:lastModifiedBy>
  <dcterms:modified xsi:type="dcterms:W3CDTF">2009-08-05T13:33:52Z</dcterms:modified>
  <cp:revision>211</cp:revision>
  <dc:subject/>
  <dc:title>Diapositiva 1</dc:title>
</cp:coreProperties>
</file>